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398-DD8E-4D3B-9831-7C179FCC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890D-D9C2-463E-AF0A-2435EFC2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rolinasalt.com/?p=2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C25-F6C4-4C4E-9569-59E0402D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777A-0031-47FA-A882-61870FB1B5D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5EA-DFF8-4B05-B9A5-2B897635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9683-D883-4125-AC76-F8D3E167B9C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03D8-56BD-4188-8184-3DAAEF2E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21E7-60EB-4A37-A375-E5F280C30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logster.com/glog.php?glog_id=10884793&amp;scale=54&amp;isprofile=true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8D8-FD01-4C05-93C2-225686EA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FCE-F8B3-4668-8DC1-572E29375B1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83D4-E338-4FC9-9E1F-B748A8DD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665-F408-4482-B1FC-41096B36E6E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EE9-CB95-4BB8-AA87-64D47026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70BC-A622-40E7-AC85-7B294B96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340-DDD2-46F1-9649-FBB7726D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1E2-B6BD-49C6-A121-7C72EFA2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93F-F48E-4216-B75C-91F03E36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A6A-D122-48EC-A2E5-D998BE71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5F4-9C87-4F8C-B6BC-24C5809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575-217B-4A91-B563-C64CAD47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BB1-D3AF-44CC-8013-EC100807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016-34AB-4F3A-ACF5-92A9BFD8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A55-7FBF-4DB7-BE4C-1E68235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18B-751D-4E2A-A115-07A0E5D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7DC-5EEF-43E8-8FC9-97033F6B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p_yyDEEC3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br>
              <a:rPr sz="4400"/>
            </a:b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chemical reactions require an initial input of energy, cal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1" lang="en-CA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exothermic endothermic"/>
          <p:cNvPicPr/>
          <p:nvPr/>
        </p:nvPicPr>
        <p:blipFill>
          <a:blip r:embed="rId1"/>
          <a:stretch/>
        </p:blipFill>
        <p:spPr>
          <a:xfrm>
            <a:off x="2523960" y="1676520"/>
            <a:ext cx="4094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us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 practical source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isrupt or denatur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n-specific (would speed up all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 and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8976234"/>
          <p:cNvPicPr/>
          <p:nvPr/>
        </p:nvPicPr>
        <p:blipFill>
          <a:blip r:embed="rId1"/>
          <a:stretch/>
        </p:blipFill>
        <p:spPr>
          <a:xfrm>
            <a:off x="1760400" y="1981080"/>
            <a:ext cx="562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w is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re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proper orientation of substrat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specific environments that promote cat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t strain on substrate bonds,  making them easier to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tudy.com video on enzymes &amp; activation ener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wp_yyDEEC3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4:20:41Z</dcterms:created>
  <dc:creator>rubina khan</dc:creator>
  <dc:description/>
  <dc:language>en-US</dc:language>
  <cp:lastModifiedBy>rubina khan</cp:lastModifiedBy>
  <dcterms:modified xsi:type="dcterms:W3CDTF">2017-05-29T04:04:43Z</dcterms:modified>
  <cp:revision>55</cp:revision>
  <dc:subject/>
  <dc:title>3.3 Enzymes &amp; Ea 3.4 Food As Fuel</dc:title>
</cp:coreProperties>
</file>